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6AB-738B-4EB4-AF22-9C413429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E43-70A3-4BF0-9AE3-7377374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323-D7A0-47AA-BDBC-C8373B8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914-64F9-4883-A22D-31CC33FD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54D-2673-4479-904F-F4DC2FD3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5C2-0DDE-49B0-B73D-68887F4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BFC-9339-451C-B987-8002E4E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89E-7E2B-470B-9A9D-029166A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BCF-178B-4B28-9042-37813779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C9E-6968-4467-B52C-6EEDFFD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1C7-A127-477A-9FC7-B136FF3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BEA-EDDC-4CE7-B7B5-FBA90CD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577-14E6-498D-88B7-9CE972A6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 Ian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m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 boom boom boom boom boom boom boom b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3071880"/>
            <a:ext cx="2819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oys!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8280" y="1646280"/>
            <a:ext cx="33242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97400">
            <a:off x="3886200" y="3276360"/>
            <a:ext cx="2800440" cy="280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7769000">
            <a:off x="4419360" y="5335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3798720"/>
            <a:ext cx="2057400" cy="170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0785800">
            <a:off x="1585800" y="2522520"/>
            <a:ext cx="4294440" cy="320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131600">
            <a:off x="3497400" y="898200"/>
            <a:ext cx="4098960" cy="409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1654800">
            <a:off x="304920" y="60948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038480" y="422928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ol 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y fav 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411000">
            <a:off x="4495680" y="1599840"/>
            <a:ext cx="2724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d and a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16520" y="1905120"/>
            <a:ext cx="338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dudadad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udada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232000">
            <a:off x="4952880" y="2286000"/>
            <a:ext cx="20368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287640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2-05T16:53:45Z</dcterms:modified>
  <cp:revision>8</cp:revision>
  <dc:subject/>
  <dc:title>TOYS</dc:title>
</cp:coreProperties>
</file>